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0CE2A3-BA28-41C9-8CBE-9F7EC4C1FE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4098D-1428-4BD4-94D3-55E921647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DA7179-EF89-43B9-868F-D7CF3B4761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FE861E-F214-451F-8CAF-FFFF3B64A8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58648-AA01-4B71-A76C-FE2CCCB68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86AD4-FEB4-4DEF-A2F3-5C7E4474C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6465C-475C-4DCA-86CE-6A1119AB4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F8539-EDA6-41DC-AEA9-6DD80A29B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757C9-9170-44E0-950C-FEB7B874D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6191B-C9CA-4C0B-85C4-03042A1A0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7FBC7-66B1-4F48-9B49-38C58AD47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3B179-A713-44B0-9698-A0F606A597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6123A-0A7E-4ACE-95F5-94D0879AA3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news.bbc.co.uk/2/hi/middle_east/3362443.st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ssil Fuel Projec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Chris Martin and Griffin Medendorp</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troleum</a:t>
            </a: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troleum is formed from marine organisms. It is composed mostly of long alkanes and alkenes. Because of that, before use of petroleum, it must be broken down into simpler substances, like gasol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 for Petroleum</a:t>
            </a:r>
            <a:endParaRPr b="0" lang="en-US" sz="4400" spc="-1" strike="noStrike">
              <a:solidFill>
                <a:srgbClr val="000000"/>
              </a:solidFill>
              <a:latin typeface="Arial"/>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troleum is low in co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produces less CO2 than co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 for Petroleum</a:t>
            </a: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troleum is in limited supp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requires large amounts of water to co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produces sulfuric acid which causes acid ra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il spills are dangerous to the envior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orting of oil</a:t>
            </a:r>
            <a:endParaRPr b="0" lang="en-US" sz="4400" spc="-1" strike="noStrike">
              <a:solidFill>
                <a:srgbClr val="000000"/>
              </a:solidFill>
              <a:latin typeface="Arial"/>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erica does almost no exporting of oil. The only exporting we do is to Canada from an oil field to an oil refinery 200 miles away. The closest oil refinery in America is about 1500 miles away. The export is for the convenience of shorter transporting. The oil comes back to us in a refined state afterwards. The other exporting we do is selling unwanted petroleum products to Mexi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orting</a:t>
            </a: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erica is the greatest fossil fuel consumer in the world. We consume 20 million barrel of oil a day and importing 11.1 million barrels a day. The second highest oil consuming country is China using 5.6 million barrels of oil a day. The second highest fossil fuel importing country is Japan with 5.3 million barrel a day. We do almost no exporting but import oil from many other count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 Middle Eastern Relations</a:t>
            </a: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page will display several key events in the U.S. to Iran relationship. For the full timeline on the website it was found, click the link bel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news.bbc.co.uk/2/hi/middle_east/3362443.stm</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71600" y="-9154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79-1981- Iranian students take 63 hostages of the U.S. embassy and hold them for a period of 444 days. During this event, diplomatic ties were dropped and Iran remains isolated until Iraq invades Iran.</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95- President Clinton imposes oil and trade sanctions on Iran for their alleged sponsorship of terrorism</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0- Clinton extends oil trade ban for Iran's support of terrorism</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0-Sanctions are lifted by U.S. Secretary of State, Madeleine Albright</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1-CIA reports that Iran has an active nuclear development programs</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Russian scientists build Iran's first nuclear reactor in Bushehr. Two other nuclear construction sites are found.</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3-Washington says that Iran must end their nuclear program by October and allow surprise searches of their nuclear facilities.</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4-The IAEA gives a November deadline for the end of the nuclear program. Iran ignores the resolution and continues. U.S. intelligence suggests Iran might be making nuclear weapons.</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5-Iran says they will not stop the nuclear program but stresses that it is for peaceful purposes.</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5-Bush offers economic incentives for the stop of nuclear programs in Iran. Iran is no longer blocked from the World Trade Organization</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5-Iran violates the Nuclear Non-Proliferation trea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vett Middle School</a:t>
            </a: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out our Middle School: </a:t>
            </a:r>
            <a:r>
              <a:rPr b="0" lang="en-US" sz="1800" spc="-1" strike="noStrike">
                <a:solidFill>
                  <a:srgbClr val="000000"/>
                </a:solidFill>
                <a:latin typeface="Arial"/>
              </a:rPr>
              <a:t>Our New Middle School will be the 1st LEAD certified Middle School in Georgia. 75% of the waste was recycled after the MS was torn down. All the steel and concrete recycled can be used again, reducing pollution by reducing the need (and creation) for more steel and concrete. The flooring will be linoleum, which takes little energy to produce. We will have 21% less energy consumption than a similar building. We will have double insulated windows with Argon glue/seal holding them in place. Both of there reduce the need for heat and A/C.We will have Daylight sensors, which will turn lights on and off automatically, depending upon the light coming into building. Motion detectors where there is no light (bathrooms etc) to save even more energy. On the roof, there will be a green roof, with plants on the roof. The plants will absorb the rainwater.There will be waterless urinals. Each urinal will save about 40,000 gallons per year! We will have solar panels on the roof. Our school will also be the 1st Audobon sanctuary school in Georg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 Energy</a:t>
            </a: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nd Energy: </a:t>
            </a:r>
            <a:r>
              <a:rPr b="0" lang="en-US" sz="1600" spc="-1" strike="noStrike">
                <a:solidFill>
                  <a:srgbClr val="000000"/>
                </a:solidFill>
                <a:latin typeface="Arial"/>
              </a:rPr>
              <a:t>Wind energy is completely harmless to the environment, and completely renewable. The average price for large, modern wind farms is around $1,000 per kilowatt electrical power installed, but installation costs vary. Installation costs include foundations, normally made of reinforced concrete, road construction (necessary to move the turbine and the sections of the tower to the building site), a transformer, telephone connection for remote control and surveillance of the turbine, and cabling costs. In economic terms, wind power has an extremely low marginal (over time) cost and a high proportion of up-front (money for installation, etc) costs.The most important factors in determining the cost of wind-generated electricity from a wind farm are: (1) the size of the wind farm; (2) the wind speed at the site; and (3) the cost of installing the turbines. Each of these factors can have a major impact. Generally speaking:The larger the wind farm, all other factors being equal, the lower the cost of energy;The higher the wind speed, the lower the cost of energy;The less expensive construction costs are, the lower the cost of energ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lar Energy</a:t>
            </a:r>
            <a:endParaRPr b="0" lang="en-US" sz="4400" spc="-1" strike="noStrike">
              <a:solidFill>
                <a:srgbClr val="000000"/>
              </a:solidFill>
              <a:latin typeface="Arial"/>
            </a:endParaRPr>
          </a:p>
        </p:txBody>
      </p:sp>
      <p:sp>
        <p:nvSpPr>
          <p:cNvPr id="78" name="PlaceHolder 2"/>
          <p:cNvSpPr>
            <a:spLocks noGrp="1"/>
          </p:cNvSpPr>
          <p:nvPr>
            <p:ph/>
          </p:nvPr>
        </p:nvSpPr>
        <p:spPr>
          <a:xfrm>
            <a:off x="762120" y="21337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lar Ener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yocera solar panels- almost maintenance free, cells in solar panel protected between tempered glass. The entire laminate is installed in an anodized aluminum frame providing structural strength and ease of installation. $53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ssil Fuels</a:t>
            </a:r>
            <a:endParaRPr b="0" lang="en-US" sz="4400" spc="-1" strike="noStrike">
              <a:solidFill>
                <a:srgbClr val="000000"/>
              </a:solidFill>
              <a:latin typeface="Arial"/>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ssil fuels are hydrocarbons formed from remains of plants and animals that lied in the ocean or in swamps. These remains were buried and exposed to high pressure and temperatures. This changes the remains into hydrocarbon mixtures, which we know as fossil fu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lar Farm</a:t>
            </a:r>
            <a:endParaRPr b="0" lang="en-US" sz="4400" spc="-1" strike="noStrike">
              <a:solidFill>
                <a:srgbClr val="000000"/>
              </a:solidFill>
              <a:latin typeface="Arial"/>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 9 acre property in Decatur, with the owners asking for $765,000 ($85,000/Acre). The government could be using to make solar powered energy (wind would be inefficient). Solar Insulation in Decatur is right in the middle of effectiveness, so it would be an effective place to have a solar powered farm. For more information, there is a link on the wik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al</a:t>
            </a:r>
            <a:endParaRPr b="0" lang="en-US" sz="4400" spc="-1" strike="noStrike">
              <a:solidFill>
                <a:srgbClr val="000000"/>
              </a:solidFill>
              <a:latin typeface="Arial"/>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l is a solid fossil fuel formed from tree ferns and other small plants in swamps. It is an aromatic hydrocarbon and has a distinct sme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bustion of Coal</a:t>
            </a:r>
            <a:endParaRPr b="0" lang="en-US" sz="4400" spc="-1" strike="noStrike">
              <a:solidFill>
                <a:srgbClr val="000000"/>
              </a:solidFill>
              <a:latin typeface="Arial"/>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l is used to create electricity by combusting it creating large amounts of heat. The heat evaporates water in boilers and he steam causes pressure. The pressure causes a large electro magnet to turn. Electrons are than captured on the magnet and distributed where they are need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 for Coal</a:t>
            </a:r>
            <a:endParaRPr b="0" lang="en-US" sz="44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l has a low cos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l is seemingly plentiful. It is predicted that the current coal reserves could last for the next centu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 for Coal</a:t>
            </a:r>
            <a:endParaRPr b="0" lang="en-US" sz="4400" spc="-1" strike="noStrike">
              <a:solidFill>
                <a:srgbClr val="000000"/>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l requires large amounts of water to produce electric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l produces more CO2 than any other fossil fue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l mining causes damage to the land such as mountain top remov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l produces sulfuric acid which causes acid ra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ural Gas</a:t>
            </a:r>
            <a:endParaRPr b="0" lang="en-US" sz="4400" spc="-1" strike="noStrike">
              <a:solidFill>
                <a:srgbClr val="000000"/>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 gas is formed from marine creatures in the ocean. Natural gas is composed mostly of alkanes. It is used for many purposes such as heating, cooking, and some of the electricity that is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 for Natural Gas</a:t>
            </a: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 gas is very low in co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 gas produces the least CO2 of any fossil fu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 for Natural Gas</a:t>
            </a:r>
            <a:endParaRPr b="0" lang="en-US" sz="4400" spc="-1" strike="noStrike">
              <a:solidFill>
                <a:srgbClr val="0000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 gas is in a limited supp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 gas produces greenhouse gases which are said to be responsible for climate ch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4T15:42:37Z</dcterms:created>
  <dc:creator>Educational Technology</dc:creator>
  <dc:description/>
  <dc:language>en-US</dc:language>
  <cp:lastModifiedBy>Educational Technology</cp:lastModifiedBy>
  <dcterms:modified xsi:type="dcterms:W3CDTF">2009-05-15T17:44:32Z</dcterms:modified>
  <cp:revision>6</cp:revision>
  <dc:subject/>
  <dc:title>Fossil Fuel Project</dc:title>
</cp:coreProperties>
</file>